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1ED-6559-4192-A6C1-1E98936A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97D-DC86-4F5F-943B-907E25C5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A4480-3A2C-4EB4-B217-BDF6C1F9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52A52-114A-428C-89F3-D5A96A21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A1AD6-01F6-4821-AD75-D33F1BF3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E6F8D-620D-464F-88D1-F7DD7398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D7955-26BB-4715-989E-DB4F39FA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39F0B-2391-4308-8E57-BA38EFBF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20A63-CE6E-48E6-B337-44B30B01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553ED-385B-43F2-A18C-E30E0477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FF825-6DED-468C-AA64-44FF12F9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769E1-FA25-4BA3-972E-968ACC27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96A-0CA4-4812-B6F0-30AE5247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3E752-9E5C-4BF1-ACB3-E267EC57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0055A-C895-4FE3-A00B-0444D628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ADD73-8AD0-4E4C-85E3-8B87A012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6C266-5D39-4414-A3D2-A691A246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F6AA2-3E68-45F5-A4EB-23EC6034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B081C-2EB4-44AA-B877-977C004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70423-A8F5-4367-99DA-0A9269D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C1A89-492C-4DE7-9FC3-E2B76C7E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6376F-E64C-4106-B3CA-607ADE6D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9C6A7-7697-402D-9EDA-1C2BEB6E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D20-F091-4EBD-BD13-85AF1D3F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EBF16-5A9F-4776-8951-968EEBD6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D6D5E-BD5F-4246-B800-74D9E253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FE6E1-1DD6-40EE-BFDB-7DD79161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8D2AB-D67A-41EB-9984-2F5A62C9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1F751-613A-4EF4-8D5A-5D619A4A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02873-71B5-45DD-AC18-2EE87C05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BAD65-4B33-4FFD-B513-9CD8E46B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F41C7-BE1C-4778-A000-056FF3F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F750F-9FC8-497E-A041-856B9783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86C0B-17A2-49D8-BB13-3F357EF6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C435-90C0-4978-BE9D-02F97E00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61AE5-82FE-4A68-AE88-0F1A04E2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6E4CF-A8AD-47D2-A9B5-3105C311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7A7E2-7B07-4E89-888B-A849F72A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2BAD5-EDC2-476F-8584-B6CA0CDD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9DBE2-B234-4AD2-A790-BF196C54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34B0A-7467-49D9-B854-1551FE27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9267B-A676-4A21-B66B-278CBBAA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D5783-BB20-4951-A2A4-1286D531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7108B-1FF4-4669-8E74-A59EB7A5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315BF-830A-40F6-A7A0-80AADFA4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B61F-D3FA-4447-8C70-0C2EC405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1D74A-9659-419C-AF69-D75DE68C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6D7EC-5F83-47DE-AA54-C5A8D72C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46337-7996-4C70-A82B-FE7194AA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A96F2-3634-4CF9-9A92-3B8FA60A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E54F2-B54E-47B0-A752-20C9235B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9D46-35FC-4ECA-9AF0-8BEF8B53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03BC-031C-45F8-A1CF-04B69062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9C6E-4A80-44F5-A0D7-11BD2780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E371-D221-4851-A8B9-9926EA1B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649C-B043-4C57-AAEE-362113D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30E-6086-4183-8147-EA651025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3A3F-D33D-44C8-B3BC-9DA90415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B6A5-6A0D-40AA-A00B-D304F0D2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7FB2-1C5B-45D6-B4B4-FAA2DE07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BB93-A780-49CB-996A-84FC36F0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99DD-ED2B-4A5D-B5D3-B555923A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3291-B639-4138-A4BB-8D4FDAA5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26BCE-CED3-4849-A17B-BE5000BE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7CC1-0567-4E45-9A4A-725FF3B4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B73D-222E-42EB-90C0-CAF93F20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4CE4C-B60B-4BC3-AAB3-7C5B5371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65E-1252-4BE4-BBF4-91D995A4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EB9F-B6C7-408E-89FC-A887FA51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37B1-21A9-416B-8B95-6001ABD9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8138-50A0-40BC-9FFC-7D6FDB8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5AF1A-91C7-4415-A359-4629F162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8418-34EF-41A8-843E-9C04187C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8F0D-F46E-4462-A91A-5B14F99F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62DC-F8A5-4A9F-A2E5-EED45EC0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123A3-C31C-45AA-BDC6-AE9EADD8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7993-7BE5-4BAC-B62C-EEF4194F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C948-8388-4B7D-B473-E4A21820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64C-792A-4341-9F53-A2FAE897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AEEE-575C-47DD-93F0-E0AC3D41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3830-A667-428A-B2A3-50EE30F3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BCEF-F4FB-44DC-9D3D-CB96AEDF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F29D4-A4A6-421B-A572-89AC84A1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AB47A-547E-4AD9-9147-FE60B571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44584-24C3-4406-8073-1A649528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BF76-16C6-4C6E-AFED-E3124FB5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2640D-71E6-4174-B5F8-32BB7F18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26134-CB5B-4E87-9793-BD13B8CC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88769-70EF-4762-A628-6D6D1E30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EFD-0E23-4D42-B7EC-4002BEC9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B48D9-4A4E-4E85-88DB-4BF110E9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F5BC6-4A53-4B4B-A619-5E9A6E00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57F2D-40C2-4A39-9442-70DEC91C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9F091-6FB6-4AB4-91A7-6056F9C6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E5C68-0605-48F3-9E4E-7CABE889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CDCE-1E83-4EF8-9083-E0A9ED20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8B5FC-84F0-4EBB-A974-0329FBF4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29467-40D5-4B44-AFBF-9577E02C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D2C18-23F7-40E5-88C2-84B07F69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CDD52-1246-48E1-BE75-4AEEFCC8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512-21FE-4E03-9569-BE45E45B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61942-746E-4E54-ABC7-4AC4BEF5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873AB-B043-48A8-B6B4-4917AE06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A8DEC-2839-4DE7-BA70-2B649980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BCCE0-A312-44B0-B040-F9C16387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A0395-CED4-4EDD-A3FD-3425113B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495D-602B-4195-95DA-7DE88A5C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490A7-7192-4ECB-BFA9-2736841F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9CF0F-E5EE-4A21-B5F7-A260CF59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88955-3D2A-4D9E-A138-52F981E3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59F9A-4FD2-4B33-8534-61BFBBBB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48F-CB0F-4980-85C4-18B44E4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FEEF4-955D-402A-A7F5-BFB0EC1F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1EA12-B648-4CC3-B891-17C879F9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9C0BE-871A-4437-A9BE-A89ED1AC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B943F-4337-4491-A05F-2D78D1C9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7E23D-FBC2-45D3-9EEE-BF1C85CF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6C02A-3330-463D-B9A6-3762FAB8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7863E-730F-4866-99E9-63FB0361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65110-5CA9-4863-A0FD-9E6FA074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9206B-2D6A-413C-85AD-4D9B72FB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C23F-5AD7-4EFF-9BB0-C0BCC02E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EC2-6A2E-42B1-B85C-A5C6F56B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D6F3-FE0A-4A1A-98D1-7EA30213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93B20-199D-4184-AE0E-709EFE7A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6AB08-03A5-4457-86E9-360DC829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65387-F203-4311-BDFF-6FB31D83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5E6CD-1286-4C33-A202-8FB18571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ED3F4-C3D1-4651-9C2D-85957EF7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60DD-ABF0-4763-8800-683818B4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BCD67-48D5-4E65-BB0C-D31AA181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202CA-B7E3-4AF8-B5B0-E3717D56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4F658-B22C-429B-86E0-6301244A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30E-27B0-4CD6-8756-C75DC90E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DA69-941A-4D56-B2CE-DE31F1A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CD7FB-2720-4BCF-894D-35154164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A0A41-810F-4F71-8900-41F5851B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F8608-BF37-4304-A6E1-616D20C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3246E-7250-426F-B7D8-F847A12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596EC-719E-44C3-9B92-CA971B37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4B645-BD86-4861-A849-3D2C86E1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F5FC8-F66E-439A-AD93-19398771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DE65A-61B4-443D-9E53-9D724CD7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09788-02E5-408D-A97A-BE21E99E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7175-743D-43EF-8885-5181EE6FFB7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E129-03E8-40E7-8BF4-C206D986F31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967B-9426-402B-B6A0-2817D282914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E387-E226-4A6C-AEF3-7BC9A92D171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D40D-350F-4020-AFF6-76BB79B7EA6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F54E-036F-4F21-8796-7475A94F1D6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5C1A-62A7-4BA8-953C-0FAE20E9E30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EA64-183E-4A65-BCC6-5BFB121C45E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1247-AF2A-431A-812A-510799BD7F4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871F-C409-455A-BF45-563F36F7986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38DD-AF9D-4995-9CC4-2CF3ED714290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7BE4-9197-4BDE-83B3-76DC362FAB5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LEX ILITCHEV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ELSEA KAMINSK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Unit Two</a:t>
            </a:r>
            <a:br>
              <a:rPr sz="4200"/>
            </a:b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23 +24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D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DP – The sum of money values of all final goods and services produced within nations borders during a specific period of ti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cluded: ultimate purchas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ot Included: resold goods, goods used in production of other goods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minal GDP- Measured in current doll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l GDP – GDP which factors out infl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ach years G+S produced x pri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ggregate Dema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utting taxes and increasing government spending (G) shift aggregate demand (AD) to the right and increases price level (P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reasing taxes and decreases government spending (G) shift AD to the left and decreases P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tabilization vs. Keynesians to Fight Inflation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ynesian Policy - Policy used in the United States since the 1950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ate guides the economy and maintains stabilit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bilization – Use policies to decrease AD and shift it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agfl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period of economic inflation accompanied by a stagnating econo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DP is slowing or decreasing while unemployment increases and inflation increa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PEC – 1970s – created stagflation in 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tential GDP (PGDP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GDP when all resources, including employment, are fully utiliz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asuring Infl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DP Deflator: comparing two price index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dex number: cost of market basket of G &amp; S relative to its cost in some base perio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PI not perfect, different for every fami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ble (creeping) is predictable, variable (galloping) is unpredictab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cost of MB in given yr)/(cost of MB in base yr) x 100 = price inde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anges in Price index: (x2-x1)/x1 x 10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age tren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ges and PLs rise toge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ges rise before PLs ri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7:48Z</dcterms:created>
  <dc:creator>Nover.L851</dc:creator>
  <dc:description/>
  <dc:language>en-US</dc:language>
  <cp:lastModifiedBy>HP Authorized Customer</cp:lastModifiedBy>
  <dcterms:modified xsi:type="dcterms:W3CDTF">2009-01-27T21:46:37Z</dcterms:modified>
  <cp:revision>11</cp:revision>
  <dc:subject/>
  <dc:title>Unit Two Chapter 23 +24</dc:title>
</cp:coreProperties>
</file>